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9A98-DC56-4E18-AD34-5B474972FB5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0DBD-C4EB-4BA2-9971-CF458472B45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DFF88-899F-41BF-987C-D57B0BECA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B9DA1-32F9-4F1B-BFF9-298696830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24D7C-723C-4349-BEA8-F5939ED40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CF8F7-A819-45C3-93F5-917DB8787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EB47F-A9F1-4F39-94C6-CD7C2D709D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CC599-8FE2-4B6B-841C-563771832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398DD-8597-4839-B422-BED85C8DF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0236E-8D85-4967-A187-158982042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BD070-2F6E-4797-9FA4-C1A21BDDF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C7E93-4EE4-4555-8C73-88C8CAD21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84B9A-20B4-4FD2-A203-495C96974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DDB86-828A-441C-A565-C5515C3CB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364BB-6432-4071-BDFD-1A09C0B5D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31566-E6D8-456C-A033-72B2CA91F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FDC42-9930-47F7-92DB-2DD2128C4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C81F8-E056-49F1-99A0-5D93BE0C68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C60DF9-97B7-4F6C-8ECC-09FE535BB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546C1C2-069A-4BBE-9E51-3D32FA201A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E7A3AB1-55F9-4CFF-8DC0-07190F6D34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69BEDC4-D6C1-46E3-A57D-8F6736D315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2F763B0-C9F2-466D-8A9D-B8E70190A1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6CB6D5D-77E7-4360-8916-768C53EE63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ECB1A-DD71-46C7-A6F6-F3444C5C1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D6F57DE-9E2C-45A1-BE18-3E40F184A7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4862F7-AA51-47CD-B728-2A81758CE7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8AA0B6B-18A6-485F-AD25-0F0C939BC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AABE939-FCF6-4D47-8ECC-A049BCB19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920F7C2-F542-4DBB-B5BA-B774AE65FA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B743A2F-B901-47E5-8830-E9D4907083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B64DA77-FD2A-43C4-B4A7-79C2468E27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7277759-D3F6-4BBF-A0CD-77F0C96A18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BD204C9-857D-4822-9E45-97BD43CAAC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7B94B51-D5D6-4C40-BE6A-C7F75D8F8B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7457F-9DDB-472B-836C-4270EC78C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21E0DC9-50E1-4FC4-AD7F-9546D20F1F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6B751A7-BD4F-40F8-8D36-1ECD1903BE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4417ED-363D-4EAA-AEA2-F811AA2F00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33426CE-2392-4F3F-96C0-2F7656062E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0EE915-1D70-450C-A1BC-8AEB0ED64A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0A2A17E-7406-472F-A0C2-D1A5E015DE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1D21247-452B-4E19-86B9-8500B86076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6C7E13C-9E20-4336-91B9-F4310EF2DC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9E71B68-6C96-4510-9FF7-87150D7B19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E6BA5E2-9E88-469E-A8EF-ACE835D705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7FC5A-62C1-433C-8AF1-2C45214F8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91046DA-F48B-4ECE-9847-99109E17E9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EF2F450-F80E-46F3-AC2A-C98768AE9B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92C4B04-551F-4A90-85FB-5EAA117D9F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1206042-C6E7-4A67-A97C-1C972A7E2E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C19963C-3BD6-4B7F-A9EB-D15F2E2B68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0C8071-D317-43D5-B0AD-A4B05954F5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8274D5-1F9C-4A25-89AC-D1CDC51AE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0C1EDD-EC74-420D-BF7B-811E74AD89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514D3AF-CDAB-4C1B-B77D-37C24A416A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6F26B59-89F2-4FE4-8B83-B3B5931405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632F7-974C-41F4-8311-57C0E1E52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279C866-46FE-4C84-87AF-483164225D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4AEB75-9A4A-498F-A515-7C4600B8F2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4FF54B-F7F5-4016-8348-454B5682EA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8214E3-3E9D-4775-816E-0C7B2C7B7B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827612-9C77-4A78-A0D7-AD066DC1C6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043DF7-E361-4195-AC6D-BF0085980D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CBA57C-5D03-41B8-B374-92D424F9F9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087546-062C-4506-AB8F-0C068E0CB0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175F51-514B-44E7-9BC1-4F7E5DDDBD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E243CD-7772-489B-B0EE-E78B6AC3DE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4FA22-2E83-4AEE-9951-6B319865A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4BB6CA-C71E-4AFD-ABF3-5C9DD2287B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868CEF-C371-4C26-BDAD-E201273B11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C1F4DD-9D69-4349-808F-2061C2DB25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DD4B0D4-04AB-4904-AD8C-43F68A57ED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83A9739-C095-4240-8E22-9BAE5D59DC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473B025-EB79-45D4-A125-71C19E4605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EBD3382-E0D4-4238-B5AC-985F4BB916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2712FAE-FF63-4C31-8A26-649B216C2F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7CD5502-6C8F-4EB6-8684-C89F0E7F60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1851B95-0FF0-4D2B-A770-0FA18BAE0B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7F618-84FE-4BBE-A828-5E29FB684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17F764-B645-42F0-882E-0125C71602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569DD8A-BE47-41BD-8FF3-BB881BF305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C102833-E473-47C1-9BEE-311CD67C86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10004F6-DA94-4FF0-91FA-8AEA603BD8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945BD95-D752-4178-B335-F7B52DF75D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C3A649-F9AB-4DC6-8A4F-0700772D90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F19656-51E0-4245-8166-B6EFFBAE66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81544E-754C-4823-8F50-0DCD14A2BE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A99FBE-60E0-4F83-91BB-8DDB92D30B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076983-3380-4EFC-918A-E03312207F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0A09B-D580-4E34-939C-9A4BFF5B1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5382B5-31F8-41A2-9852-E5ACC86915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047463-90C4-48E1-888F-109B2D9A9B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7EC866-9494-4E18-BFB6-4C14242CB5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6E1ED2-5F9F-47C2-B69C-CDA78EF7B0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B7CA43-8C19-452C-AB9B-B8E4459153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F33B78-E63E-4CCB-9225-EE296C0106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4F366C-85D9-462A-AE1D-1862ABCCF95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A90B-4CC0-464F-85A0-84FB3167F3E1}"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61FDE-F40E-4671-BC41-B4249CFAA5FA}" type="slidenum">
              <a:rPr b="1" lang="en-AU"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C47B-0FC3-4C18-A01A-2161F14FE091}" type="slidenum">
              <a:rPr b="1" lang="en-AU"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1003-453D-4C68-8D36-F280D5EC6931}"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8BC4-88AC-4972-9CB6-22E365C1178E}"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168A-0C65-447D-9ABA-9C130B488690}" type="slidenum">
              <a:rPr b="1" lang="en-AU"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AC79-0BD6-47B8-842C-8CD0D6513946}" type="slidenum">
              <a:rPr b="1" lang="en-AU"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9BD5-5377-4395-A9AF-5FC4D591DD07}"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57120" y="1499760"/>
            <a:ext cx="8429760" cy="271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bddc3"/>
                </a:solidFill>
                <a:latin typeface="Goudy Old Style"/>
              </a:rPr>
              <a:t>ELECTIVE C</a:t>
            </a:r>
            <a:br>
              <a:rPr sz="4000"/>
            </a:br>
            <a:br>
              <a:rPr sz="4000"/>
            </a:br>
            <a:r>
              <a:rPr b="0" lang="en-AU" sz="4000" spc="-1" strike="noStrike">
                <a:solidFill>
                  <a:srgbClr val="ebddc3"/>
                </a:solidFill>
                <a:latin typeface="Goudy Old Style"/>
              </a:rPr>
              <a:t>REPRESENTATION AND TEXT</a:t>
            </a:r>
            <a:br>
              <a:rPr sz="4000"/>
            </a:br>
            <a:endParaRPr b="0" lang="en-US" sz="40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600" spc="-1" strike="noStrike">
                <a:solidFill>
                  <a:srgbClr val="ffffff"/>
                </a:solidFill>
                <a:latin typeface="Goudy Old Style"/>
              </a:rPr>
              <a:t>The Lowell Factor </a:t>
            </a:r>
            <a:endParaRPr b="0" lang="en-US" sz="4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81" name=""/>
          <p:cNvSpPr txBox="1"/>
          <p:nvPr/>
        </p:nvSpPr>
        <p:spPr>
          <a:xfrm>
            <a:off x="357120" y="1589040"/>
            <a:ext cx="4138560" cy="4572000"/>
          </a:xfrm>
          <a:prstGeom prst="rect">
            <a:avLst/>
          </a:prstGeom>
          <a:noFill/>
          <a:ln w="0">
            <a:noFill/>
          </a:ln>
        </p:spPr>
        <p:txBody>
          <a:bodyPr anchor="t">
            <a:normAutofit fontScale="85000"/>
          </a:bodyPr>
          <a:p>
            <a:pPr marL="269640" indent="-269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The confessional poets were not merely recording their emotions on paper; craft and construction were extremely important to their work. While their treatment of the poetic self may have been groundbreaking and shocking to some readers, these poets maintained a high level of craftsmanship through their careful attention to the use of prosody (the rhythm, stress and intonation of speech).</a:t>
            </a:r>
            <a:endParaRPr b="0" lang="en-US" sz="2000" spc="-1" strike="noStrike">
              <a:solidFill>
                <a:srgbClr val="000000"/>
              </a:solidFill>
              <a:latin typeface="Tw Cen MT"/>
            </a:endParaRPr>
          </a:p>
          <a:p>
            <a:pPr marL="269640" indent="-269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The confessional poets of the 1950s and 1960s pioneered a type of writing that forever changed the landscape of</a:t>
            </a:r>
            <a:endParaRPr b="0" lang="en-US" sz="2000" spc="-1" strike="noStrike">
              <a:solidFill>
                <a:srgbClr val="000000"/>
              </a:solidFill>
              <a:latin typeface="Tw Cen MT"/>
            </a:endParaRPr>
          </a:p>
        </p:txBody>
      </p:sp>
      <p:pic>
        <p:nvPicPr>
          <p:cNvPr id="382" name="Content Placeholder 5" descr="pen-and-paper.jpg"/>
          <p:cNvPicPr/>
          <p:nvPr/>
        </p:nvPicPr>
        <p:blipFill>
          <a:blip r:embed="rId1"/>
          <a:stretch/>
        </p:blipFill>
        <p:spPr>
          <a:xfrm>
            <a:off x="4857840" y="3678120"/>
            <a:ext cx="3857400" cy="2381400"/>
          </a:xfrm>
          <a:prstGeom prst="rect">
            <a:avLst/>
          </a:prstGeom>
          <a:ln w="0">
            <a:noFill/>
          </a:ln>
        </p:spPr>
      </p:pic>
      <p:sp>
        <p:nvSpPr>
          <p:cNvPr id="383" name="TextBox 10"/>
          <p:cNvSpPr/>
          <p:nvPr/>
        </p:nvSpPr>
        <p:spPr>
          <a:xfrm>
            <a:off x="4786200" y="1571760"/>
            <a:ext cx="4000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American poetry. The tradition of confessional poetry has been a major influence on generations of writers and continues to this d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85" name=""/>
          <p:cNvSpPr txBox="1"/>
          <p:nvPr/>
        </p:nvSpPr>
        <p:spPr>
          <a:xfrm>
            <a:off x="642960" y="1571760"/>
            <a:ext cx="8153280" cy="4495680"/>
          </a:xfrm>
          <a:prstGeom prst="rect">
            <a:avLst/>
          </a:prstGeom>
          <a:noFill/>
          <a:ln w="0">
            <a:noFill/>
          </a:ln>
        </p:spPr>
        <p:txBody>
          <a:bodyPr anchor="t">
            <a:normAutofit fontScale="95000"/>
          </a:bodyPr>
          <a:p>
            <a:pPr marL="302760" indent="-3027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Goudy Old Style"/>
              </a:rPr>
              <a:t>Poems Set for Study</a:t>
            </a:r>
            <a:endParaRPr b="0" lang="en-US" sz="2900" spc="-1" strike="noStrike">
              <a:solidFill>
                <a:srgbClr val="000000"/>
              </a:solidFill>
              <a:latin typeface="Tw Cen MT"/>
            </a:endParaRPr>
          </a:p>
          <a:p>
            <a:pPr marL="302760" indent="-302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The four poems set for study contain elements of the ‘confessional mode’ of writing poetry.</a:t>
            </a:r>
            <a:endParaRPr b="0" lang="en-US" sz="20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Goudy Old Style"/>
              </a:rPr>
              <a:t>Walking in the Blue </a:t>
            </a:r>
            <a:endParaRPr b="0" lang="en-US" sz="2000" spc="-1" strike="noStrike">
              <a:solidFill>
                <a:srgbClr val="000000"/>
              </a:solidFill>
              <a:latin typeface="Tw Cen MT"/>
            </a:endParaRPr>
          </a:p>
          <a:p>
            <a:pPr lvl="1" marL="607680" indent="-25920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autobiographic account  of Lowell’s time in a mental institution</a:t>
            </a:r>
            <a:endParaRPr b="0" lang="en-US" sz="1700" spc="-1" strike="noStrike">
              <a:solidFill>
                <a:srgbClr val="000000"/>
              </a:solidFill>
              <a:latin typeface="Tw Cen MT"/>
            </a:endParaRPr>
          </a:p>
          <a:p>
            <a:pPr lvl="1" marL="607680" indent="-25920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Significant themes:</a:t>
            </a:r>
            <a:endParaRPr b="0" lang="en-US" sz="1700" spc="-1" strike="noStrike">
              <a:solidFill>
                <a:srgbClr val="000000"/>
              </a:solidFill>
              <a:latin typeface="Tw Cen MT"/>
            </a:endParaRPr>
          </a:p>
          <a:p>
            <a:pPr lvl="2" marL="868680" indent="-21708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wrestling with insanity and potential suicide; and</a:t>
            </a:r>
            <a:endParaRPr b="0" lang="en-US" sz="1400" spc="-1" strike="noStrike">
              <a:solidFill>
                <a:srgbClr val="000000"/>
              </a:solidFill>
              <a:latin typeface="Tw Cen MT"/>
            </a:endParaRPr>
          </a:p>
          <a:p>
            <a:pPr lvl="2" marL="868680" indent="-21708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His critique of New England’s aristocracy</a:t>
            </a:r>
            <a:endParaRPr b="0" lang="en-US" sz="1400" spc="-1" strike="noStrike">
              <a:solidFill>
                <a:srgbClr val="000000"/>
              </a:solidFill>
              <a:latin typeface="Tw Cen MT"/>
            </a:endParaRPr>
          </a:p>
          <a:p>
            <a:pPr lvl="4" marL="1737360" indent="-21708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oudy Old Style"/>
              </a:rPr>
              <a:t>       </a:t>
            </a:r>
            <a:endParaRPr b="0" lang="en-US" sz="11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Goudy Old Style"/>
              </a:rPr>
              <a:t>Commander Lowell</a:t>
            </a:r>
            <a:endParaRPr b="0" lang="en-US" sz="2000" spc="-1" strike="noStrike">
              <a:solidFill>
                <a:srgbClr val="000000"/>
              </a:solidFill>
              <a:latin typeface="Tw Cen MT"/>
            </a:endParaRPr>
          </a:p>
          <a:p>
            <a:pPr lvl="1" marL="607680" indent="-25920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Lowell’s acidic character study of his weak-willed, unworldly father</a:t>
            </a:r>
            <a:endParaRPr b="0" lang="en-US" sz="1700" spc="-1" strike="noStrike">
              <a:solidFill>
                <a:srgbClr val="000000"/>
              </a:solidFill>
              <a:latin typeface="Tw Cen MT"/>
            </a:endParaRPr>
          </a:p>
          <a:p>
            <a:pPr lvl="1" marL="607680" indent="-25920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Significant themes:</a:t>
            </a:r>
            <a:endParaRPr b="0" lang="en-US" sz="1700" spc="-1" strike="noStrike">
              <a:solidFill>
                <a:srgbClr val="000000"/>
              </a:solidFill>
              <a:latin typeface="Tw Cen MT"/>
            </a:endParaRPr>
          </a:p>
          <a:p>
            <a:pPr lvl="2" marL="868680" indent="-21708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Family history and dysfunction</a:t>
            </a:r>
            <a:endParaRPr b="0" lang="en-US" sz="1400" spc="-1" strike="noStrike">
              <a:solidFill>
                <a:srgbClr val="000000"/>
              </a:solidFill>
              <a:latin typeface="Tw Cen MT"/>
            </a:endParaRPr>
          </a:p>
          <a:p>
            <a:pPr lvl="1" marL="607680" indent="-259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	</a:t>
            </a:r>
            <a:r>
              <a:rPr b="0" lang="en-AU" sz="1700" spc="-1" strike="noStrike">
                <a:solidFill>
                  <a:srgbClr val="000000"/>
                </a:solidFill>
                <a:latin typeface="Goudy Old Style"/>
              </a:rPr>
              <a:t>  </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Goudy Old Style"/>
              </a:rPr>
              <a:t>Skunk Hour</a:t>
            </a:r>
            <a:endParaRPr b="0" lang="en-US" sz="2000" spc="-1" strike="noStrike">
              <a:solidFill>
                <a:srgbClr val="000000"/>
              </a:solidFill>
              <a:latin typeface="Tw Cen MT"/>
            </a:endParaRPr>
          </a:p>
          <a:p>
            <a:pPr lvl="1" marL="601200" indent="-25632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Articulates a ground of values that make it possible to endure, if not to overcome, the anxieties of contemporary life and the loss of traditional values.</a:t>
            </a:r>
            <a:endParaRPr b="0" lang="en-US" sz="1700" spc="-1" strike="noStrike">
              <a:solidFill>
                <a:srgbClr val="000000"/>
              </a:solidFill>
              <a:latin typeface="Tw Cen MT"/>
            </a:endParaRPr>
          </a:p>
          <a:p>
            <a:pPr lvl="1" marL="601200" indent="-25632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Significant themes:</a:t>
            </a:r>
            <a:endParaRPr b="0" lang="en-US" sz="1700" spc="-1" strike="noStrike">
              <a:solidFill>
                <a:srgbClr val="000000"/>
              </a:solidFill>
              <a:latin typeface="Tw Cen MT"/>
            </a:endParaRPr>
          </a:p>
          <a:p>
            <a:pPr lvl="2" marL="859320" indent="-21456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Humankind’s inability to live within its own history;</a:t>
            </a:r>
            <a:endParaRPr b="0" lang="en-US" sz="1400" spc="-1" strike="noStrike">
              <a:solidFill>
                <a:srgbClr val="000000"/>
              </a:solidFill>
              <a:latin typeface="Tw Cen MT"/>
            </a:endParaRPr>
          </a:p>
          <a:p>
            <a:pPr lvl="2" marL="859320" indent="-21456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addresses the human race as "aliens" in the own world; and</a:t>
            </a:r>
            <a:endParaRPr b="0" lang="en-US" sz="1400" spc="-1" strike="noStrike">
              <a:solidFill>
                <a:srgbClr val="000000"/>
              </a:solidFill>
              <a:latin typeface="Tw Cen MT"/>
            </a:endParaRPr>
          </a:p>
          <a:p>
            <a:pPr lvl="2" marL="859320" indent="-21456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  </a:t>
            </a:r>
            <a:r>
              <a:rPr b="0" lang="en-AU" sz="1400" spc="-1" strike="noStrike">
                <a:solidFill>
                  <a:srgbClr val="000000"/>
                </a:solidFill>
                <a:latin typeface="Goudy Old Style"/>
              </a:rPr>
              <a:t>It also deals with how our own personal histories blend with the historical context of our world.</a:t>
            </a:r>
            <a:endParaRPr b="0" lang="en-US" sz="1400" spc="-1" strike="noStrike">
              <a:solidFill>
                <a:srgbClr val="000000"/>
              </a:solidFill>
              <a:latin typeface="Tw Cen MT"/>
            </a:endParaRPr>
          </a:p>
          <a:p>
            <a:pPr lvl="2" marL="859320" indent="-2145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Goudy Old Style"/>
              </a:rPr>
              <a:t>For the Union Dead</a:t>
            </a:r>
            <a:endParaRPr b="0" lang="en-US" sz="2000" spc="-1" strike="noStrike">
              <a:solidFill>
                <a:srgbClr val="000000"/>
              </a:solidFill>
              <a:latin typeface="Tw Cen MT"/>
            </a:endParaRPr>
          </a:p>
          <a:p>
            <a:pPr lvl="1" marL="601200" indent="-25632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Reflects on the context of the individual experience of loss</a:t>
            </a:r>
            <a:endParaRPr b="0" lang="en-US" sz="1700" spc="-1" strike="noStrike">
              <a:solidFill>
                <a:srgbClr val="000000"/>
              </a:solidFill>
              <a:latin typeface="Tw Cen MT"/>
            </a:endParaRPr>
          </a:p>
          <a:p>
            <a:pPr lvl="1" marL="601200" indent="-25632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Goudy Old Style"/>
              </a:rPr>
              <a:t>Significant themes:</a:t>
            </a:r>
            <a:endParaRPr b="0" lang="en-US" sz="1700" spc="-1" strike="noStrike">
              <a:solidFill>
                <a:srgbClr val="000000"/>
              </a:solidFill>
              <a:latin typeface="Tw Cen MT"/>
            </a:endParaRPr>
          </a:p>
          <a:p>
            <a:pPr lvl="2" marL="859320" indent="-21456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Idealism and Despair</a:t>
            </a:r>
            <a:endParaRPr b="0" lang="en-US" sz="1400" spc="-1" strike="noStrike">
              <a:solidFill>
                <a:srgbClr val="000000"/>
              </a:solidFill>
              <a:latin typeface="Tw Cen MT"/>
            </a:endParaRPr>
          </a:p>
          <a:p>
            <a:pPr lvl="2" marL="859320" indent="-21456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Public vs Private Life</a:t>
            </a:r>
            <a:endParaRPr b="0" lang="en-US" sz="1400" spc="-1" strike="noStrike">
              <a:solidFill>
                <a:srgbClr val="000000"/>
              </a:solidFill>
              <a:latin typeface="Tw Cen MT"/>
            </a:endParaRPr>
          </a:p>
          <a:p>
            <a:pPr lvl="2" marL="859320" indent="-21456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oudy Old Style"/>
              </a:rPr>
              <a:t>Devolution of Humankind</a:t>
            </a:r>
            <a:endParaRPr b="0" lang="en-US" sz="1400" spc="-1" strike="noStrike">
              <a:solidFill>
                <a:srgbClr val="000000"/>
              </a:solidFill>
              <a:latin typeface="Tw Cen MT"/>
            </a:endParaRPr>
          </a:p>
          <a:p>
            <a:pPr lvl="2" marL="859320" indent="-21456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88000"/>
          </a:bodyPr>
          <a:p>
            <a:pPr marL="280440" indent="-280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Tw Cen MT"/>
              </a:rPr>
              <a:t>	</a:t>
            </a:r>
            <a:r>
              <a:rPr b="0" lang="en-AU" sz="2000" spc="-1" strike="noStrike" u="sng">
                <a:solidFill>
                  <a:srgbClr val="000000"/>
                </a:solidFill>
                <a:uFillTx/>
                <a:latin typeface="Goudy Old Style"/>
              </a:rPr>
              <a:t>Elective C Rubric</a:t>
            </a:r>
            <a:endParaRPr b="0" lang="en-US" sz="20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This elective requires students to explore representations of events, personalities or situations. They evaluate how medium of production, textual form, perspective and choice of language influence meaning. </a:t>
            </a:r>
            <a:endParaRPr b="0" lang="en-US" sz="20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The study develops students’ understanding of the relationships between representation and meaning.</a:t>
            </a:r>
            <a:endParaRPr b="0" lang="en-US" sz="2000" spc="-1" strike="noStrike">
              <a:solidFill>
                <a:srgbClr val="000000"/>
              </a:solidFill>
              <a:latin typeface="Tw Cen MT"/>
            </a:endParaRPr>
          </a:p>
          <a:p>
            <a:pPr marL="280440" indent="-280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 </a:t>
            </a:r>
            <a:endParaRPr b="0" lang="en-US" sz="20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This elective requires students to study four prescribed poems offering a representation(s) of an event, personality or situation. </a:t>
            </a:r>
            <a:endParaRPr b="0" lang="en-US" sz="20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oudy Old Style"/>
              </a:rPr>
              <a:t>Students develop a range of imaginative, interpretive and analytical compositions that relate to different forms and media of representation. These compositions may be realised in a variety of forms and media.</a:t>
            </a:r>
            <a:endParaRPr b="0" lang="en-US" sz="20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oudy Old Style"/>
              </a:rPr>
              <a:t> </a:t>
            </a:r>
            <a:endParaRPr b="0" lang="en-US" sz="800" spc="-1" strike="noStrike">
              <a:solidFill>
                <a:srgbClr val="000000"/>
              </a:solidFill>
              <a:latin typeface="Tw Cen MT"/>
            </a:endParaRPr>
          </a:p>
          <a:p>
            <a:pPr marL="280440" indent="-2804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Goudy Old Style"/>
              </a:rPr>
              <a:t>Elective C Assessment Task</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The assessment for this elective has the following % weightings:</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	</a:t>
            </a:r>
            <a:r>
              <a:rPr b="0" lang="en-AU" sz="2000" spc="-1" strike="noStrike">
                <a:solidFill>
                  <a:srgbClr val="000000"/>
                </a:solidFill>
                <a:latin typeface="Goudy Old Style"/>
              </a:rPr>
              <a:t>~  Reading 5%</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	</a:t>
            </a:r>
            <a:r>
              <a:rPr b="0" lang="en-AU" sz="2000" spc="-1" strike="noStrike">
                <a:solidFill>
                  <a:srgbClr val="000000"/>
                </a:solidFill>
                <a:latin typeface="Goudy Old Style"/>
              </a:rPr>
              <a:t>~  Writing 5%</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	</a:t>
            </a:r>
            <a:r>
              <a:rPr b="0" lang="en-AU" sz="2000" spc="-1" strike="noStrike">
                <a:solidFill>
                  <a:srgbClr val="000000"/>
                </a:solidFill>
                <a:latin typeface="Goudy Old Style"/>
              </a:rPr>
              <a:t>~  Viewing/Representing 10%</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The assessment is a hand-in task due for submission in Week 10. It will require students to write a 1000 word feature article that explores the representation of a significant theme in Robert Lowell’s poetry.</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    </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Students will be required to provide an original visual representation of their own as the key image in the feature article.</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64" name=""/>
          <p:cNvSpPr txBox="1"/>
          <p:nvPr/>
        </p:nvSpPr>
        <p:spPr>
          <a:xfrm>
            <a:off x="4844520" y="1589040"/>
            <a:ext cx="3886200" cy="457200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Goudy Old Style"/>
              </a:rPr>
              <a:t>Feature Articles</a:t>
            </a: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Should have:</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a relevant headline;</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lead paragraph</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by-line</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appropriate image</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can be written in columns</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They are informative and can be entertaining...they </a:t>
            </a:r>
            <a:r>
              <a:rPr b="1" lang="en-AU" sz="2000" spc="-1" strike="noStrike">
                <a:solidFill>
                  <a:srgbClr val="ff0000"/>
                </a:solidFill>
                <a:latin typeface="Goudy Old Style"/>
              </a:rPr>
              <a:t>SHOULD NOT </a:t>
            </a:r>
            <a:r>
              <a:rPr b="0" lang="en-AU" sz="2000" spc="-1" strike="noStrike">
                <a:solidFill>
                  <a:srgbClr val="000000"/>
                </a:solidFill>
                <a:latin typeface="Goudy Old Style"/>
              </a:rPr>
              <a:t>be an essay.</a:t>
            </a:r>
            <a:endParaRPr b="0" lang="en-US" sz="2000" spc="-1" strike="noStrike">
              <a:solidFill>
                <a:srgbClr val="000000"/>
              </a:solidFill>
              <a:latin typeface="Tw Cen MT"/>
            </a:endParaRPr>
          </a:p>
        </p:txBody>
      </p:sp>
      <p:pic>
        <p:nvPicPr>
          <p:cNvPr id="365" name="Content Placeholder 6" descr="magazine article pat.png"/>
          <p:cNvPicPr/>
          <p:nvPr/>
        </p:nvPicPr>
        <p:blipFill>
          <a:blip r:embed="rId1"/>
          <a:stretch/>
        </p:blipFill>
        <p:spPr>
          <a:xfrm>
            <a:off x="285840" y="1589040"/>
            <a:ext cx="4035240" cy="521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1600200" y="5486040"/>
            <a:ext cx="7315200" cy="685800"/>
          </a:xfrm>
          <a:prstGeom prst="rect">
            <a:avLst/>
          </a:prstGeom>
          <a:noFill/>
          <a:ln w="0">
            <a:noFill/>
          </a:ln>
        </p:spPr>
        <p:txBody>
          <a:bodyPr anchor="t">
            <a:normAutofit fontScale="63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Goudy Old Style"/>
              </a:rPr>
              <a:t>Elective C </a:t>
            </a:r>
            <a:endParaRPr b="0" lang="en-US" sz="2800" spc="-1" strike="noStrike">
              <a:solidFill>
                <a:srgbClr val="000000"/>
              </a:solidFill>
              <a:latin typeface="Tw Cen MT"/>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Goudy Old Style"/>
              </a:rPr>
              <a:t>Representation and Text</a:t>
            </a:r>
            <a:endParaRPr b="0" lang="en-US" sz="2800" spc="-1" strike="noStrike">
              <a:solidFill>
                <a:srgbClr val="000000"/>
              </a:solidFill>
              <a:latin typeface="Tw Cen MT"/>
            </a:endParaRPr>
          </a:p>
        </p:txBody>
      </p:sp>
      <p:sp>
        <p:nvSpPr>
          <p:cNvPr id="367"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Goudy Old Style"/>
              </a:rPr>
              <a:t>The Lowell Factor</a:t>
            </a:r>
            <a:endParaRPr b="0" lang="en-US" sz="5400" spc="-1" strike="noStrike">
              <a:solidFill>
                <a:srgbClr val="775f55"/>
              </a:solidFill>
              <a:latin typeface="Tw Cen MT"/>
            </a:endParaRPr>
          </a:p>
        </p:txBody>
      </p:sp>
      <p:pic>
        <p:nvPicPr>
          <p:cNvPr id="368" name="Picture 2" descr="http://graphics8.nytimes.com/images/2005/06/25/books/kirn583.jpg"/>
          <p:cNvPicPr/>
          <p:nvPr/>
        </p:nvPicPr>
        <p:blipFill>
          <a:blip r:embed="rId1"/>
          <a:srcRect l="12279" t="0" r="12279" b="0"/>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70" name=""/>
          <p:cNvSpPr txBox="1"/>
          <p:nvPr/>
        </p:nvSpPr>
        <p:spPr>
          <a:xfrm>
            <a:off x="142560" y="1589040"/>
            <a:ext cx="5143320" cy="4572000"/>
          </a:xfrm>
          <a:prstGeom prst="rect">
            <a:avLst/>
          </a:prstGeom>
          <a:noFill/>
          <a:ln w="0">
            <a:noFill/>
          </a:ln>
        </p:spPr>
        <p:txBody>
          <a:bodyPr anchor="t">
            <a:normAutofit fontScale="94000"/>
          </a:bodyPr>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Robert Lowell was born 1</a:t>
            </a:r>
            <a:r>
              <a:rPr b="0" lang="en-AU" sz="2000" spc="-1" strike="noStrike" baseline="30000">
                <a:solidFill>
                  <a:srgbClr val="000000"/>
                </a:solidFill>
                <a:latin typeface="Goudy Old Style"/>
              </a:rPr>
              <a:t>st</a:t>
            </a:r>
            <a:r>
              <a:rPr b="0" lang="en-AU" sz="2000" spc="-1" strike="noStrike">
                <a:solidFill>
                  <a:srgbClr val="000000"/>
                </a:solidFill>
                <a:latin typeface="Goudy Old Style"/>
              </a:rPr>
              <a:t> March 1917 in      Boston, the son of Robert Traill Spence    Lowell and Charlotte (Winslow) Lowell. </a:t>
            </a:r>
            <a:endParaRPr b="0" lang="en-US" sz="2000" spc="-1" strike="noStrike">
              <a:solidFill>
                <a:srgbClr val="000000"/>
              </a:solidFill>
              <a:latin typeface="Tw Cen MT"/>
            </a:endParaRPr>
          </a:p>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Lowell descended from a distinguished New England family that included significant literary figures. </a:t>
            </a:r>
            <a:endParaRPr b="0" lang="en-US" sz="2000" spc="-1" strike="noStrike">
              <a:solidFill>
                <a:srgbClr val="000000"/>
              </a:solidFill>
              <a:latin typeface="Tw Cen MT"/>
            </a:endParaRPr>
          </a:p>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His turbulent childhood, dominated by tension between his parents, left deep emotional scars. </a:t>
            </a:r>
            <a:endParaRPr b="0" lang="en-US" sz="2000" spc="-1" strike="noStrike">
              <a:solidFill>
                <a:srgbClr val="000000"/>
              </a:solidFill>
              <a:latin typeface="Tw Cen MT"/>
            </a:endParaRPr>
          </a:p>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Broke from his family due to his parents rejecting the women he wanted to marry.</a:t>
            </a:r>
            <a:endParaRPr b="0" lang="en-US" sz="2000" spc="-1" strike="noStrike">
              <a:solidFill>
                <a:srgbClr val="000000"/>
              </a:solidFill>
              <a:latin typeface="Tw Cen MT"/>
            </a:endParaRPr>
          </a:p>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Served five months gaol in 1943 for being a conscientious objector and refusing the draft</a:t>
            </a:r>
            <a:endParaRPr b="0" lang="en-US" sz="2000" spc="-1" strike="noStrike">
              <a:solidFill>
                <a:srgbClr val="000000"/>
              </a:solidFill>
              <a:latin typeface="Tw Cen MT"/>
            </a:endParaRPr>
          </a:p>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71" name="Content Placeholder 4" descr="rtsLowellIII_abt1920.jpg"/>
          <p:cNvPicPr/>
          <p:nvPr/>
        </p:nvPicPr>
        <p:blipFill>
          <a:blip r:embed="rId1"/>
          <a:stretch/>
        </p:blipFill>
        <p:spPr>
          <a:xfrm>
            <a:off x="5500800" y="1785960"/>
            <a:ext cx="3398760" cy="471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73" name=""/>
          <p:cNvSpPr txBox="1"/>
          <p:nvPr/>
        </p:nvSpPr>
        <p:spPr>
          <a:xfrm>
            <a:off x="213840" y="1600200"/>
            <a:ext cx="8551800" cy="44956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Some of Lowell’s works included</a:t>
            </a:r>
            <a:r>
              <a:rPr b="0" i="1" lang="en-AU" sz="2000" spc="-1" strike="noStrike">
                <a:solidFill>
                  <a:srgbClr val="000000"/>
                </a:solidFill>
                <a:latin typeface="Goudy Old Style"/>
              </a:rPr>
              <a:t>: </a:t>
            </a:r>
            <a:endParaRPr b="0" lang="en-US" sz="20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700" spc="-1" strike="noStrike">
                <a:solidFill>
                  <a:srgbClr val="000000"/>
                </a:solidFill>
                <a:latin typeface="Goudy Old Style"/>
              </a:rPr>
              <a:t>Land of Unlikeness </a:t>
            </a:r>
            <a:r>
              <a:rPr b="0" lang="en-AU" sz="1700" spc="-1" strike="noStrike">
                <a:solidFill>
                  <a:srgbClr val="000000"/>
                </a:solidFill>
                <a:latin typeface="Goudy Old Style"/>
              </a:rPr>
              <a:t>(1944) Lowell used Christian symbols to juxtapose the world of grace to urban life.</a:t>
            </a:r>
            <a:endParaRPr b="0" lang="en-US" sz="17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700" spc="-1" strike="noStrike">
                <a:solidFill>
                  <a:srgbClr val="000000"/>
                </a:solidFill>
                <a:latin typeface="Goudy Old Style"/>
              </a:rPr>
              <a:t>Lord Weary’s Castle </a:t>
            </a:r>
            <a:r>
              <a:rPr b="0" lang="en-AU" sz="1700" spc="-1" strike="noStrike">
                <a:solidFill>
                  <a:srgbClr val="000000"/>
                </a:solidFill>
                <a:latin typeface="Goudy Old Style"/>
              </a:rPr>
              <a:t>(1946) won the Pulitzer Prize  and saw Lowell return to the New England milieu. </a:t>
            </a:r>
            <a:endParaRPr b="0" lang="en-US" sz="17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700" spc="-1" strike="noStrike">
                <a:solidFill>
                  <a:srgbClr val="000000"/>
                </a:solidFill>
                <a:latin typeface="Goudy Old Style"/>
              </a:rPr>
              <a:t>Life Studies </a:t>
            </a:r>
            <a:r>
              <a:rPr b="0" lang="en-AU" sz="1700" spc="-1" strike="noStrike">
                <a:solidFill>
                  <a:srgbClr val="000000"/>
                </a:solidFill>
                <a:latin typeface="Goudy Old Style"/>
              </a:rPr>
              <a:t>(1959) won the National Book Award in 1960 and saw a major turning point in Lowell’s writing style. This anthology contained three of the poems set for study: ‘Walking in the Blue’, ‘Commander Lowell’ and ‘Skunk Hour’.</a:t>
            </a:r>
            <a:endParaRPr b="0" lang="en-US" sz="17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700" spc="-1" strike="noStrike">
                <a:solidFill>
                  <a:srgbClr val="000000"/>
                </a:solidFill>
                <a:latin typeface="Goudy Old Style"/>
              </a:rPr>
              <a:t>For the Union Dead</a:t>
            </a:r>
            <a:r>
              <a:rPr b="0" lang="en-AU" sz="1700" spc="-1" strike="noStrike">
                <a:solidFill>
                  <a:srgbClr val="000000"/>
                </a:solidFill>
                <a:latin typeface="Goudy Old Style"/>
              </a:rPr>
              <a:t> (1964) best know for the title poem.</a:t>
            </a:r>
            <a:endParaRPr b="0" lang="en-US" sz="17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Goudy Old Style"/>
              </a:rPr>
              <a:t> </a:t>
            </a:r>
            <a:r>
              <a:rPr b="0" lang="en-AU" sz="2000" spc="-1" strike="noStrike">
                <a:solidFill>
                  <a:srgbClr val="000000"/>
                </a:solidFill>
                <a:latin typeface="Goudy Old Style"/>
              </a:rPr>
              <a:t>Lowell, who suffered bipolar disorder, was hospitialised for mania in 1949 and treated with electroshock therapy.</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Lowell died of heart failure in a taxi on September 12</a:t>
            </a:r>
            <a:r>
              <a:rPr b="0" lang="en-AU" sz="2000" spc="-1" strike="noStrike" baseline="30000">
                <a:solidFill>
                  <a:srgbClr val="000000"/>
                </a:solidFill>
                <a:latin typeface="Goudy Old Style"/>
              </a:rPr>
              <a:t>th</a:t>
            </a:r>
            <a:r>
              <a:rPr b="0" lang="en-AU" sz="2000" spc="-1" strike="noStrike">
                <a:solidFill>
                  <a:srgbClr val="000000"/>
                </a:solidFill>
                <a:latin typeface="Goudy Old Style"/>
              </a:rPr>
              <a:t>, 1977</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75" name=""/>
          <p:cNvSpPr txBox="1"/>
          <p:nvPr/>
        </p:nvSpPr>
        <p:spPr>
          <a:xfrm>
            <a:off x="356760" y="1589040"/>
            <a:ext cx="4714920" cy="4572000"/>
          </a:xfrm>
          <a:prstGeom prst="rect">
            <a:avLst/>
          </a:prstGeom>
          <a:noFill/>
          <a:ln w="0">
            <a:noFill/>
          </a:ln>
        </p:spPr>
        <p:txBody>
          <a:bodyPr anchor="t">
            <a:normAutofit fontScale="88000"/>
          </a:bodyPr>
          <a:p>
            <a:pPr marL="280440" indent="-280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0000"/>
                </a:solidFill>
                <a:uFillTx/>
                <a:latin typeface="Goudy Old Style"/>
              </a:rPr>
              <a:t>Robert Lowell</a:t>
            </a:r>
            <a:endParaRPr b="0" lang="en-US" sz="2800" spc="-1" strike="noStrike">
              <a:solidFill>
                <a:srgbClr val="000000"/>
              </a:solidFill>
              <a:latin typeface="Tw Cen MT"/>
            </a:endParaRPr>
          </a:p>
          <a:p>
            <a:pPr marL="280440" indent="-280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A foremost contributor to the development of </a:t>
            </a:r>
            <a:r>
              <a:rPr b="0" lang="en-AU" sz="2000" spc="-1" strike="noStrike" u="sng">
                <a:solidFill>
                  <a:srgbClr val="000000"/>
                </a:solidFill>
                <a:uFillTx/>
                <a:latin typeface="Goudy Old Style"/>
              </a:rPr>
              <a:t>confessional poetry</a:t>
            </a:r>
            <a:r>
              <a:rPr b="0" lang="en-AU" sz="2000" spc="-1" strike="noStrike">
                <a:solidFill>
                  <a:srgbClr val="000000"/>
                </a:solidFill>
                <a:latin typeface="Goudy Old Style"/>
              </a:rPr>
              <a:t>,  Robert Lowell is widely regarded as one of the most gifted and influential American poets of the post-war period. While his early verse is distinguished for its complex formalism and technical perfection, during the 1960s Lowell emerged as a leading innovator of the confessional mode. This highly-charged, self-revelatory style of writing, heralded by his collection </a:t>
            </a:r>
            <a:r>
              <a:rPr b="0" i="1" lang="en-AU" sz="2000" spc="-1" strike="noStrike">
                <a:solidFill>
                  <a:srgbClr val="000000"/>
                </a:solidFill>
                <a:latin typeface="Goudy Old Style"/>
              </a:rPr>
              <a:t>Life Studies </a:t>
            </a:r>
            <a:r>
              <a:rPr b="0" lang="en-AU" sz="2000" spc="-1" strike="noStrike">
                <a:solidFill>
                  <a:srgbClr val="000000"/>
                </a:solidFill>
                <a:latin typeface="Goudy Old Style"/>
              </a:rPr>
              <a:t>featured a new emphasis on intense, uninhibited discussion on personal, family, and psychological struggles.</a:t>
            </a:r>
            <a:endParaRPr b="0" lang="en-US" sz="2000" spc="-1" strike="noStrike">
              <a:solidFill>
                <a:srgbClr val="000000"/>
              </a:solidFill>
              <a:latin typeface="Tw Cen MT"/>
            </a:endParaRPr>
          </a:p>
        </p:txBody>
      </p:sp>
      <p:sp>
        <p:nvSpPr>
          <p:cNvPr id="376" name=""/>
          <p:cNvSpPr txBox="1"/>
          <p:nvPr/>
        </p:nvSpPr>
        <p:spPr>
          <a:xfrm>
            <a:off x="5285880" y="1589040"/>
            <a:ext cx="344484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7" name="Picture 5" descr="Robert_Lowell_Simon_Fieldhouse.jpg"/>
          <p:cNvPicPr/>
          <p:nvPr/>
        </p:nvPicPr>
        <p:blipFill>
          <a:blip r:embed="rId1"/>
          <a:stretch/>
        </p:blipFill>
        <p:spPr>
          <a:xfrm>
            <a:off x="5214960" y="1571760"/>
            <a:ext cx="3657600" cy="47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75f55"/>
                </a:solidFill>
                <a:latin typeface="Goudy Old Style"/>
              </a:rPr>
              <a:t>Elective C – Representation and Text</a:t>
            </a:r>
            <a:endParaRPr b="0" lang="en-US" sz="40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Goudy Old Style"/>
              </a:rPr>
              <a:t>Confessional Poetry</a:t>
            </a: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Confessional poetry is the poetry of the personal or “I”. This style of writing emerged in the late 1950s and early 1960s and is associated with poets such as Robert Lowell and Sylvia Plath. Lowell’s book </a:t>
            </a:r>
            <a:r>
              <a:rPr b="0" i="1" lang="en-AU" sz="2000" spc="-1" strike="noStrike">
                <a:solidFill>
                  <a:srgbClr val="000000"/>
                </a:solidFill>
                <a:latin typeface="Goudy Old Style"/>
              </a:rPr>
              <a:t>Life Studies </a:t>
            </a:r>
            <a:r>
              <a:rPr b="0" lang="en-AU" sz="2000" spc="-1" strike="noStrike">
                <a:solidFill>
                  <a:srgbClr val="000000"/>
                </a:solidFill>
                <a:latin typeface="Goudy Old Style"/>
              </a:rPr>
              <a:t>was a highly personal account of his life and family ties, and had a significant impact on American poetry. Plath was a student of Lowell and noted his work influenced her own writing.</a:t>
            </a:r>
            <a:endParaRPr b="0" lang="en-US" sz="20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oudy Old Style"/>
              </a:rPr>
              <a:t>The confessional poetry of the mid-twentieth century dealt with subject matter that previously had not been openly discussed in American poetry. Private experiences with and feelings about death, trauma, depression and relationships were addressed in this type of poetry, often in an autobiographical manner.</a:t>
            </a:r>
            <a:endParaRPr b="0" lang="en-US" sz="20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3:32:35Z</dcterms:created>
  <dc:creator>user</dc:creator>
  <dc:description/>
  <dc:language>en-US</dc:language>
  <cp:lastModifiedBy>user</cp:lastModifiedBy>
  <dcterms:modified xsi:type="dcterms:W3CDTF">2010-05-24T08:05:14Z</dcterms:modified>
  <cp:revision>9</cp:revision>
  <dc:subject/>
  <dc:title>Elective C  Representation and Text </dc:title>
</cp:coreProperties>
</file>